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5913-3760-4558-A689-41EA6D907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1DF6-736C-4FD5-A432-3F99AF91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D859-77A3-41D7-B1CF-28BE1C2A8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A656-C030-4020-A9DA-DD03CADDA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C99E9-FC54-476E-8368-694761F6C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6FE30-679B-473E-8420-583CFA3D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5B3C-6575-40CA-80E9-30BF1551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218F-1053-4139-B918-8E5836DF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35F6-C975-49B7-8E7A-FC2538E5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A10F-B7FB-4034-84D1-0E01DEF9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D2B2-410B-418C-B316-649B3035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3EF3-F8AC-49E6-9FA1-00FA5765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FD33-228C-461A-B19D-51ABD7DC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F59E-F5A7-4E70-9412-02B1F0C0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A2E5-062A-4E06-8280-FD1E405E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DC3FB-1A51-4F47-BBAF-6803351A1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35DC-0272-4D9A-9A4A-1F787D3DD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EFDF1-B85A-4B19-902E-C4749F65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65F4D-D27D-4EB8-91CE-5E08BF98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4E234-442D-4121-845C-8AA24278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DB1A1-74D1-473D-A0CA-36F0A92E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D862B-6D4D-437E-88AB-80A0878F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7AB7-1418-4C25-9FEF-8A650A96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303BA-83BB-4B1D-81BC-CB8AABB8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526B1-342C-4DD6-811B-CE4AD681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CD249-0A92-4F41-B079-A7CE5A16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255B0-49A2-4F77-8ACB-B044563D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71390-2AE3-485F-8566-38DD1AD8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B8E70-0D1A-4C18-9241-A46E40ABD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3E4E6-89A0-4CF0-AB33-3DD4ABB4F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EFCB1-8BB7-4892-AC83-9D8C6FF87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78EFE-B6B3-476C-BE08-E52B4746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109C1-DF7E-43C8-AE74-E30DE3D0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2B96-96ED-4E3F-956D-24D1144F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1099E-B241-4691-BD54-ECC37FEE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77813-C273-466F-8DE7-D910DB24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E1FA0-1E37-4613-A836-605FE0C7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56245-5AE1-41B3-9B8C-A0EFE1C9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2FC48-CFCF-4F32-B938-B850A6AA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B874A-8777-4560-B310-6E5335D2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64E3D-A5CD-4D37-9415-B80A7D4F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EF959-84AF-4FF7-80B6-18785F822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39CBA-495B-41B8-A769-7FA5E8429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255BF-07DE-42B5-A58F-8F127CECE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FB18-AA66-4027-A641-16B35188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D1F62-0CC4-482B-BAD5-5D68A006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E57F7-87BB-41E7-ACF2-E4A42B11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8DCA9-627A-4D96-8965-E0D9460D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A177F-769E-4D65-A612-900467CB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EE447-4299-4577-9564-41482BFC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F57B6-90C5-4778-9FA7-FB2ED044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0C6C9-CB01-4A27-8AE8-2F95D5AD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202E4-A341-4011-888F-CC17D666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35CC6-DBEA-4955-B5E2-874B721E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84EEE-9812-47F5-B50B-F490A8250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AA6F-AC98-4425-8611-A0E33C91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84D35-8581-45DC-A011-9449E6925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F177-2FF6-45E9-913A-57F0B358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A772-D29D-47A4-9B03-0FA7C1B8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4AF1-94EE-437D-BAEC-B85433DB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FC2C-8394-4371-ADBA-8ABA64137DB3}" type="slidenum">
              <a:rPr b="0" lang="es-MX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7 Rectángulo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7 Rectángulo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9 Conector recto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7964-78B6-41B9-B4E4-51BBCA7E83C8}" type="slidenum">
              <a:rPr b="0" lang="es-MX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1D1C-5953-4DED-83D6-FE17E58950CB}" type="slidenum">
              <a:rPr b="0" lang="es-MX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7 Rectángulo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9 Rectángulo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5579-DD3D-4B67-BEE9-03B869BF1CF2}" type="slidenum">
              <a:rPr b="0" lang="es-MX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234F-E890-44CA-A7CC-5CB0CCFA1074}" type="slidenum">
              <a:rPr b="0" lang="es-MX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1 Título" descr=""/>
          <p:cNvPicPr/>
          <p:nvPr/>
        </p:nvPicPr>
        <p:blipFill>
          <a:blip r:embed="rId1"/>
          <a:stretch/>
        </p:blipFill>
        <p:spPr>
          <a:xfrm>
            <a:off x="450720" y="281160"/>
            <a:ext cx="7255080" cy="7254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456840" y="1142640"/>
            <a:ext cx="7615080" cy="53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rebuchet MS"/>
              </a:rPr>
              <a:t>1.- 4ª sesión académica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(Regiones I, II, may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Regiones III y IV may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Región IV  tema articulación y evaluación general)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Fecha: 28 al 31 de may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2.-Conferencia taller: </a:t>
            </a:r>
            <a:r>
              <a:rPr b="0" i="1" lang="es-MX" sz="2400" spc="-1" strike="noStrike">
                <a:solidFill>
                  <a:srgbClr val="000000"/>
                </a:solidFill>
                <a:latin typeface="Trebuchet MS"/>
              </a:rPr>
              <a:t>Competencias emocionales docentes. 25 abri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3.- Foro. 26 abril, 24 may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4.- 2ª reunión de articulación. 23 May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5.- Reunión CEAS. 21 mayo, 13 juni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6.- Capacitación GAN y GAE. Módulo III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7.- Asesoría diferenciada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14:59:38Z</dcterms:created>
  <dc:creator>usuario</dc:creator>
  <dc:description/>
  <dc:language>en-US</dc:language>
  <cp:lastModifiedBy>usuario</cp:lastModifiedBy>
  <dcterms:modified xsi:type="dcterms:W3CDTF">2012-04-20T15:37:10Z</dcterms:modified>
  <cp:revision>7</cp:revision>
  <dc:subject/>
  <dc:title>Diapositiva 1</dc:title>
</cp:coreProperties>
</file>